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832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88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832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95400" y="241200"/>
            <a:ext cx="709128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1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2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3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4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5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6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pic>
        <p:nvPicPr>
          <p:cNvPr id="2" name="Picture 33" descr="app"/>
          <p:cNvPicPr/>
          <p:nvPr/>
        </p:nvPicPr>
        <p:blipFill>
          <a:blip r:embed="rId2"/>
          <a:stretch/>
        </p:blipFill>
        <p:spPr>
          <a:xfrm>
            <a:off x="-4680" y="-9360"/>
            <a:ext cx="9148680" cy="977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app"/>
          <p:cNvPicPr/>
          <p:nvPr/>
        </p:nvPicPr>
        <p:blipFill>
          <a:blip r:embed="rId3"/>
          <a:stretch/>
        </p:blipFill>
        <p:spPr>
          <a:xfrm>
            <a:off x="-4680" y="992160"/>
            <a:ext cx="9148680" cy="9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7" descr="logo_hidrografico_br_rgb"/>
          <p:cNvPicPr/>
          <p:nvPr/>
        </p:nvPicPr>
        <p:blipFill>
          <a:blip r:embed="rId4"/>
          <a:stretch/>
        </p:blipFill>
        <p:spPr>
          <a:xfrm>
            <a:off x="136440" y="93600"/>
            <a:ext cx="1727280" cy="773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8" descr="app"/>
          <p:cNvPicPr/>
          <p:nvPr/>
        </p:nvPicPr>
        <p:blipFill>
          <a:blip r:embed="rId5"/>
          <a:stretch/>
        </p:blipFill>
        <p:spPr>
          <a:xfrm>
            <a:off x="-9360" y="6581880"/>
            <a:ext cx="7481880" cy="79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39" descr=""/>
          <p:cNvPicPr/>
          <p:nvPr/>
        </p:nvPicPr>
        <p:blipFill>
          <a:blip r:embed="rId6"/>
          <a:stretch/>
        </p:blipFill>
        <p:spPr>
          <a:xfrm>
            <a:off x="7480440" y="6232680"/>
            <a:ext cx="12888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IALA Questionnaire 2011 (M2)</a:t>
            </a:r>
            <a:br>
              <a:rPr sz="2800"/>
            </a:b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[2010 data]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78936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Victor Conceição – Hydrographic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Jorge Teles – Lighthouses Authority (P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santos.teles@marinha.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Arlindo Santos – Lighthous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4960" y="5877000"/>
            <a:ext cx="31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gis.hidrografico.pt/ial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00280"/>
                <a:tab algn="l" pos="74469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21 Countries / 23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00280"/>
                <a:tab algn="l" pos="7446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Rectangle 3"/>
          <p:cNvGraphicFramePr/>
          <p:nvPr/>
        </p:nvGraphicFramePr>
        <p:xfrm>
          <a:off x="515880" y="1652760"/>
          <a:ext cx="8229600" cy="42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1652760"/>
                    <a:ext cx="822960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Previous editions of the questionna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2004 – 18 Responses (18 N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2006 – 25 Responses (23 N.A. + 2 P.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2007 – 16 Responses (12 N.A. + 4 P.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2008 – 32 Responses (25 N.A. + 7 P.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2009 -  23 Responses (14 N.A. + 9 P.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2010 -  22 Responses (20 N.A. + 2 P.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N.A. – National 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.P. – Privat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-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Total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Performance indicator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8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Risk management tool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1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Training facilities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4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Rectangle 3"/>
          <p:cNvGraphicFramePr/>
          <p:nvPr/>
        </p:nvGraphicFramePr>
        <p:xfrm>
          <a:off x="515880" y="1652760"/>
          <a:ext cx="8628120" cy="44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1652760"/>
                    <a:ext cx="862812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-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Total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Staff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6885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District - Depot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Rectangle 3"/>
          <p:cNvGraphicFramePr/>
          <p:nvPr/>
        </p:nvGraphicFramePr>
        <p:xfrm>
          <a:off x="108000" y="1935000"/>
          <a:ext cx="8640720" cy="459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935000"/>
                    <a:ext cx="8640720" cy="45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-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Total</a:t>
            </a:r>
            <a:r>
              <a:rPr b="0" lang="pt-PT" sz="20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Staff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6885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District - Depot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599d"/>
                </a:solidFill>
                <a:latin typeface="Tahoma"/>
              </a:rPr>
              <a:t>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0280"/>
                <a:tab algn="l" pos="46641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Rectangle 3"/>
          <p:cNvGraphicFramePr/>
          <p:nvPr/>
        </p:nvGraphicFramePr>
        <p:xfrm>
          <a:off x="0" y="1916280"/>
          <a:ext cx="9144000" cy="48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27:50Z</dcterms:created>
  <dc:creator>field</dc:creator>
  <dc:description/>
  <dc:language>en-US</dc:language>
  <cp:lastModifiedBy>Divisão Navegação - NS</cp:lastModifiedBy>
  <dcterms:modified xsi:type="dcterms:W3CDTF">2012-05-16T00:32:53Z</dcterms:modified>
  <cp:revision>36</cp:revision>
  <dc:subject/>
  <dc:title>Slide 1</dc:title>
</cp:coreProperties>
</file>